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9E5-133A-4F8F-B1A7-27956107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718-6DDF-4D3A-90AC-AE368752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5C6-DA35-456E-A21A-CDFBE81C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750-47F9-46B4-ABDB-502D754F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8E8-EB1D-43F0-8DB2-0E277055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C55-702A-479A-9F25-E09D0BFE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A6C-7AFC-42B3-97B3-3FC075A3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CD5-C1BE-43E1-8213-0170C58D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432-D2D6-4C8B-9636-38D65AED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C6A-6A3F-4179-903B-9B421B1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71E-81FC-467A-A371-FB72C34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AB5-7C7B-4870-8A43-F1FBB612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18D4-5B58-4419-AF47-B4764DEC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Pitch No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9691" t="19113" r="13363" b="32438"/>
          <a:stretch/>
        </p:blipFill>
        <p:spPr>
          <a:xfrm>
            <a:off x="3348000" y="4437000"/>
            <a:ext cx="2521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ble cle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9728" t="21330" r="53566" b="18242"/>
          <a:stretch/>
        </p:blipFill>
        <p:spPr>
          <a:xfrm>
            <a:off x="3487680" y="1268280"/>
            <a:ext cx="148608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79280" y="5805360"/>
            <a:ext cx="884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is sits on a set of 5 lines called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005" t="26132" r="24891" b="38874"/>
          <a:stretch/>
        </p:blipFill>
        <p:spPr>
          <a:xfrm>
            <a:off x="1619280" y="1484280"/>
            <a:ext cx="5688000" cy="426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9497" t="28090" r="59624" b="35167"/>
          <a:stretch/>
        </p:blipFill>
        <p:spPr>
          <a:xfrm>
            <a:off x="1476360" y="1700280"/>
            <a:ext cx="3384720" cy="446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284720" y="620640"/>
            <a:ext cx="4537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ut the trebl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ef on the staff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..like this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26920" y="404640"/>
            <a:ext cx="3135600" cy="18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52680" y="2664000"/>
            <a:ext cx="42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se look like blob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me have sticks to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7596" t="12828" r="10048" b="7998"/>
          <a:stretch/>
        </p:blipFill>
        <p:spPr>
          <a:xfrm>
            <a:off x="3348000" y="4292640"/>
            <a:ext cx="2160720" cy="17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508720" y="4365720"/>
            <a:ext cx="3097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n you rememb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many beat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ach one is worth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360" y="907920"/>
            <a:ext cx="750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ch note has a letter name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640" y="4581360"/>
            <a:ext cx="741672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...and sits in a certai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ce on the staf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2492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2852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3284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3716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4149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3573360"/>
            <a:ext cx="5047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3357720"/>
            <a:ext cx="5047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2637000"/>
            <a:ext cx="5047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933720"/>
            <a:ext cx="5047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2349360"/>
            <a:ext cx="505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32000" y="3645000"/>
            <a:ext cx="14472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067280" y="3429000"/>
            <a:ext cx="14436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76720" y="2708280"/>
            <a:ext cx="14472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24360" y="4005360"/>
            <a:ext cx="14472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43640" y="2421000"/>
            <a:ext cx="14436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92360" y="2852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7079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932360" y="285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012000" y="321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in the spa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44644" t="14609" r="15273" b="53245"/>
          <a:stretch/>
        </p:blipFill>
        <p:spPr>
          <a:xfrm>
            <a:off x="1187280" y="1700280"/>
            <a:ext cx="6409080" cy="3854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771640" y="3860640"/>
            <a:ext cx="21600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771640" y="3429000"/>
            <a:ext cx="28764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71640" y="2997360"/>
            <a:ext cx="21600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71640" y="256536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4360" y="404640"/>
            <a:ext cx="75596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t them in orde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om low to hig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they look like this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7148" r="0" b="12317"/>
          <a:stretch/>
        </p:blipFill>
        <p:spPr>
          <a:xfrm>
            <a:off x="1332000" y="2565360"/>
            <a:ext cx="66675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16:31:09Z</dcterms:created>
  <dc:creator>LFT1</dc:creator>
  <dc:description/>
  <dc:language>en-US</dc:language>
  <cp:lastModifiedBy>RMOSSER</cp:lastModifiedBy>
  <dcterms:modified xsi:type="dcterms:W3CDTF">2010-03-12T20:14:31Z</dcterms:modified>
  <cp:revision>19</cp:revision>
  <dc:subject/>
  <dc:title>Pitch Notation</dc:title>
</cp:coreProperties>
</file>